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CB8-BD79-4AE5-8004-927939B6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827-AAA4-41AD-B30E-A8D06DB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472-C21B-40B9-85E0-A4CBF8D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32F-8474-415D-AEC4-D613CC57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5F2-836F-49F7-B752-1C43C59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5D5-CA36-415A-BBEC-7773778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029-77A9-4825-B493-9ACCDED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29B-6840-4B5D-8F3C-18F4B466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25D-EBC7-43DF-9D8A-F7A649B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0B8-FBDE-4B4A-A1BE-42BDE2B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87C-119E-4730-A16A-2E679B6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438-FDB7-45F4-9AFD-A0F70FB7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7FD-540E-4F9D-9A68-EB3CAC1B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e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943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8080" y="140508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79584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43040" y="1090440"/>
            <a:ext cx="585792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43280" y="1090440"/>
            <a:ext cx="52578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3160" y="15238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76440" y="15238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9200" y="2119320"/>
            <a:ext cx="4305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3:32Z</dcterms:created>
  <dc:creator>asmith</dc:creator>
  <dc:description/>
  <dc:language>en-US</dc:language>
  <cp:lastModifiedBy>asmith</cp:lastModifiedBy>
  <dcterms:modified xsi:type="dcterms:W3CDTF">2011-01-31T15:34:46Z</dcterms:modified>
  <cp:revision>2</cp:revision>
  <dc:subject/>
  <dc:title>Les Repas</dc:title>
</cp:coreProperties>
</file>